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92B-4E72-4469-A532-01CC9FF0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374-6BFA-4025-BF6D-DE04790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E3F-C7CB-46C6-A838-D4D0B989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BED-81E9-49B8-B250-09A4EB9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D33C-4D95-4A56-AF02-C0AE4481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6BBF-F7D8-417C-84EE-0DA7DCE8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B652-9B3B-45FE-8A61-0D8271C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F55-224F-4BEE-8251-7AB4A8F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0E5-0991-485E-8810-0305945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478-6172-42D5-854D-5AEF3146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80B4-8914-4A4D-BC15-B94AA17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CDD-A533-4796-B8CE-8C4F33B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2871-EB0D-4E28-AD9F-21A0050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024-AB54-49FD-B66C-2746C97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FBF7-A27C-45EC-9854-C1B751D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E503-1706-4620-AE52-21F47DE6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8E1-B5E1-4360-8C13-1AA1C5BF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983-FE25-41D1-8F15-BA05EC99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A2C-8B1A-44A7-8670-B51E50D6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56A-F18C-483B-882B-F0B6893F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B72-F246-49F9-ACE8-A0E730D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755-32E6-45F6-A4D6-E1D2D9C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F1B-9A1D-4E1D-9F7A-0F6977E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378-18C8-49E0-AE82-16BA5911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F5F-51F1-43A4-B115-7C9196A2A8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6B2-67CC-4C9B-B222-EE6D639D93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к разместить Россию на листе бумаги??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2203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жет быть та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840360" cy="5141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4797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 ведь это не вся Россия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 может быть та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705800" cy="4846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939680" cy="181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11280" y="2997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 это только флаг нашей страны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ся Россия не влезает..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Ее надо уменьшить каким-нибудь способо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Есть такое понятие – МАСШТАБ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Отношение длины отрезка на изображении к его настоящей длине называется масштабом изображения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92480" y="4686480"/>
            <a:ext cx="1757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казывается, чтобы наша страна уместилась на листе бумагт ее нужно уменьшить в 18 500 000 раз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952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 мы получили карту России в масштабе 1 : 18 500 00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566720"/>
            <a:ext cx="86058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460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зентацию подготовила группа «Патриот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2736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6:41:37Z</dcterms:created>
  <dc:creator>Елена</dc:creator>
  <dc:description/>
  <dc:language>en-US</dc:language>
  <cp:lastModifiedBy>Елена</cp:lastModifiedBy>
  <dcterms:modified xsi:type="dcterms:W3CDTF">2011-06-09T07:14:23Z</dcterms:modified>
  <cp:revision>2</cp:revision>
  <dc:subject/>
  <dc:title>Как разместить Россию на листе бумаги???</dc:title>
</cp:coreProperties>
</file>